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8CF-2970-4181-869D-242642DB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E82-944D-4645-870A-5C888BE2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9C9-7062-429C-8ECD-3DB9F79C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6D7-CB4B-4E88-8DE2-3CABFD07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054-F15E-4814-927B-6EFDD11D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3FB-669F-4D76-A196-8076617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2F2-78B5-41CF-B443-660F0A5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2CE-B693-47BE-9802-D60C4609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C06-3609-43D7-83D3-5C4C67BD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031-51C0-4EB5-9506-4ACFEEE7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EE4-6F2B-4CD5-B080-5C73E4B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232-150F-4774-AA53-03A9FFFF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9BF0-AC65-41C1-933C-81F397AE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 and mouse g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c Du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43200"/>
            <a:ext cx="2819520" cy="1905120"/>
          </a:xfrm>
          <a:prstGeom prst="rightArrow">
            <a:avLst>
              <a:gd name="adj1" fmla="val 50000"/>
              <a:gd name="adj2" fmla="val 3699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10666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endshow"/>
            <a:hlinkClick r:id="rId1"/>
          </p:cNvPr>
          <p:cNvSpPr/>
          <p:nvPr/>
        </p:nvSpPr>
        <p:spPr>
          <a:xfrm rot="5400000">
            <a:off x="3124080" y="228240"/>
            <a:ext cx="2362320" cy="1905120"/>
          </a:xfrm>
          <a:prstGeom prst="rightArrow">
            <a:avLst>
              <a:gd name="adj1" fmla="val 50000"/>
              <a:gd name="adj2" fmla="val 31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6324480" y="2666520"/>
            <a:ext cx="2819520" cy="1905120"/>
          </a:xfrm>
          <a:prstGeom prst="rightArrow">
            <a:avLst>
              <a:gd name="adj1" fmla="val 50000"/>
              <a:gd name="adj2" fmla="val 3699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8522600">
            <a:off x="799920" y="4838040"/>
            <a:ext cx="2133720" cy="1905120"/>
          </a:xfrm>
          <a:prstGeom prst="rightArrow">
            <a:avLst>
              <a:gd name="adj1" fmla="val 50000"/>
              <a:gd name="adj2" fmla="val 28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3116000">
            <a:off x="5486400" y="4647600"/>
            <a:ext cx="2819520" cy="1904760"/>
          </a:xfrm>
          <a:prstGeom prst="rightArrow">
            <a:avLst>
              <a:gd name="adj1" fmla="val 50000"/>
              <a:gd name="adj2" fmla="val 3700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123000">
            <a:off x="75600" y="457200"/>
            <a:ext cx="2819520" cy="1904760"/>
          </a:xfrm>
          <a:prstGeom prst="rightArrow">
            <a:avLst>
              <a:gd name="adj1" fmla="val 50000"/>
              <a:gd name="adj2" fmla="val 370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6104 L 0.7875 0.19422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12139E-006 L 0.20417 0.80463 E"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36994E-006 L -0.7625 0.3052 E">
                                      <p:cBhvr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9191E-006 L 0.52917 -0.84347 E">
                                      <p:cBhvr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9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4335E-006 L -0.57917 -0.69364 E">
                                      <p:cBhvr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5 0.01665 L 0.7375 0.11653 E">
                                      <p:cBhvr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286000"/>
            <a:ext cx="4800600" cy="35812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63244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057400"/>
            <a:ext cx="5029200" cy="373392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s for play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4:33:17Z</dcterms:created>
  <dc:creator>CGB</dc:creator>
  <dc:description/>
  <dc:language>en-US</dc:language>
  <cp:lastModifiedBy>CGB</cp:lastModifiedBy>
  <dcterms:modified xsi:type="dcterms:W3CDTF">2008-01-11T15:04:36Z</dcterms:modified>
  <cp:revision>4</cp:revision>
  <dc:subject/>
  <dc:title>Cat and mouse game </dc:title>
</cp:coreProperties>
</file>